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79F759-196A-4CD8-B1AE-E3C0430115B9}"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767C87-F779-4BD6-AC8F-E52EAA5E3C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27DA2C-1004-4D8D-A5B5-C1B6B1362F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0C1D4C-B044-4BF2-A41D-FB7FD03104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7490A-F82F-4E24-9DF4-386BB52CD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0592C6-6463-400B-BC88-0B5626444F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5A4C56-26D8-4B7F-BB2C-94BAE12B75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6461B-D878-45B1-9B09-92DD3CDB3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D7A85-050C-4B59-AEEA-AE1DC8A14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EBB2C-3EDD-4E78-9919-4595C4CFB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2C19D-5495-4836-BB03-187EACFC8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18B7E-7776-483D-9ECA-039F0FDBA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A129E-63ED-4A6D-9E2C-DD1A4B440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E567E-0503-42FE-B973-F387BABAC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6261F-BF75-4588-982D-2F79F03AF3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3F0C4E-1178-4FDE-8759-6589E9C91F31}"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838EE3-7C28-464F-AEE7-F717B04508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8153280" cy="1923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uman Rights Approach in Lao PDR: Opportunities and Challenges</a:t>
            </a:r>
            <a:r>
              <a:rPr b="1" lang="en-US" sz="3200" spc="-1" strike="noStrike">
                <a:solidFill>
                  <a:srgbClr val="000000"/>
                </a:solidFill>
                <a:latin typeface="Calibri"/>
              </a:rPr>
              <a:t> </a:t>
            </a:r>
            <a:r>
              <a:rPr b="0" lang="en-US" sz="3200" spc="-1" strike="noStrike">
                <a:solidFill>
                  <a:srgbClr val="000000"/>
                </a:solidFill>
                <a:latin typeface="Calibri"/>
              </a:rPr>
              <a:t>for the UN System at Country Level to Strengthen and use Lao HR systems </a:t>
            </a:r>
            <a:endParaRPr b="0" lang="en-US" sz="32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898989"/>
                </a:solidFill>
                <a:latin typeface="Calibri"/>
              </a:rPr>
              <a:t>Human Rights-based Approach and Results-based Management Workshop</a:t>
            </a:r>
            <a:endParaRPr b="0" lang="en-US" sz="2700" spc="-1" strike="noStrike">
              <a:solidFill>
                <a:srgbClr val="000000"/>
              </a:solidFill>
              <a:latin typeface="Calibri"/>
            </a:endParaRPr>
          </a:p>
          <a:p>
            <a:pPr indent="0" algn="ctr">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898989"/>
                </a:solidFill>
                <a:latin typeface="Calibri"/>
              </a:rPr>
              <a:t>Novotel, Vientiane, Lao PDR, 21-22 September, 2010</a:t>
            </a:r>
            <a:r>
              <a:rPr b="0" lang="en-AU" sz="2700" spc="-1" strike="noStrike">
                <a:solidFill>
                  <a:srgbClr val="898989"/>
                </a:solidFill>
                <a:latin typeface="Calibri"/>
              </a:rPr>
              <a:t> </a:t>
            </a:r>
            <a:endParaRPr b="0" lang="en-US" sz="2700" spc="-1" strike="noStrike">
              <a:solidFill>
                <a:srgbClr val="000000"/>
              </a:solidFill>
              <a:latin typeface="Calibri"/>
            </a:endParaRPr>
          </a:p>
          <a:p>
            <a:pPr indent="0" algn="ctr">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troduction: National Human Rights Protection System (NHRPS)</a:t>
            </a:r>
            <a:endParaRPr b="0" lang="en-US" sz="3200" spc="-1" strike="noStrike">
              <a:solidFill>
                <a:srgbClr val="000000"/>
              </a:solidFill>
              <a:latin typeface="Calibri"/>
            </a:endParaRPr>
          </a:p>
        </p:txBody>
      </p:sp>
      <p:sp>
        <p:nvSpPr>
          <p:cNvPr id="51"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e NHRP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The national policies and institutions that promote and protect human righ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The total human rights infrastructure:</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all of the checks and balances needed to ensure that state institutions are accountable and fulfill their duty to respect, protect and uphold human rights</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2 essential elements of the NHRP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international human rights standards must be fully incorporated and reflected in national laws and polici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onal  institutions and civil society should have the means, capacity and backing to implement and or oversee these laws and polici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NHRPS</a:t>
            </a:r>
            <a:endParaRPr b="0" lang="en-US" sz="4400" spc="-1" strike="noStrike">
              <a:solidFill>
                <a:srgbClr val="000000"/>
              </a:solidFill>
              <a:latin typeface="Calibri"/>
            </a:endParaRPr>
          </a:p>
        </p:txBody>
      </p:sp>
      <p:pic>
        <p:nvPicPr>
          <p:cNvPr id="53" name="Diagram 4" descr=""/>
          <p:cNvPicPr/>
          <p:nvPr/>
        </p:nvPicPr>
        <p:blipFill>
          <a:blip r:embed="rId1"/>
          <a:stretch/>
        </p:blipFill>
        <p:spPr>
          <a:xfrm>
            <a:off x="1060560" y="2189160"/>
            <a:ext cx="6108480" cy="4156200"/>
          </a:xfrm>
          <a:prstGeom prst="rect">
            <a:avLst/>
          </a:prstGeom>
          <a:ln w="0">
            <a:noFill/>
          </a:ln>
        </p:spPr>
      </p:pic>
      <p:pic>
        <p:nvPicPr>
          <p:cNvPr id="54" name="Content Placeholder 11" descr="Bartlett_-_Pha_That_Luang_-_Vientiane.jpg"/>
          <p:cNvPicPr/>
          <p:nvPr/>
        </p:nvPicPr>
        <p:blipFill>
          <a:blip r:embed="rId2"/>
          <a:stretch/>
        </p:blipFill>
        <p:spPr>
          <a:xfrm>
            <a:off x="1643040" y="3429000"/>
            <a:ext cx="1984320" cy="158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The Lao PDR Country Context: International HR Instruments</a:t>
            </a:r>
            <a:endParaRPr b="0" lang="en-US" sz="3600" spc="-1" strike="noStrike">
              <a:solidFill>
                <a:srgbClr val="000000"/>
              </a:solidFill>
              <a:latin typeface="Calibri"/>
            </a:endParaRPr>
          </a:p>
        </p:txBody>
      </p:sp>
      <p:sp>
        <p:nvSpPr>
          <p:cNvPr id="56" name=""/>
          <p:cNvSpPr txBox="1"/>
          <p:nvPr/>
        </p:nvSpPr>
        <p:spPr>
          <a:xfrm>
            <a:off x="228600" y="1600200"/>
            <a:ext cx="86868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The Lao PDR is a party to six core human rights conventions and two optional protocol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International Covenant on Civil and Political Rights (ICCP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International Covenant on Economic, Social and Cultural Rights (ICESC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International Convention on the Elimination of All Forms of Racial Discrimination (ICERD),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Convention on the Elimination of All Forms of Discrimination Against Women (CEDAW),</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Convention on the Rights of Persons with Disabilities (CRP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Convention on the Rights of the Child (CRC) </a:t>
            </a:r>
            <a:endParaRPr b="0" lang="en-US" sz="22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Optional Protocol regarding  the Sale of Children, Child Prostitution and Child Pornography,</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Optional Protocol on the Involvement of Children  in Armed Conflict.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Lao PDR Country Context: The NHRPS</a:t>
            </a:r>
            <a:endParaRPr b="0" lang="en-US" sz="4000" spc="-1" strike="noStrike">
              <a:solidFill>
                <a:srgbClr val="000000"/>
              </a:solidFill>
              <a:latin typeface="Calibri"/>
            </a:endParaRPr>
          </a:p>
        </p:txBody>
      </p:sp>
      <p:sp>
        <p:nvSpPr>
          <p:cNvPr id="58" name=""/>
          <p:cNvSpPr txBox="1"/>
          <p:nvPr/>
        </p:nvSpPr>
        <p:spPr>
          <a:xfrm>
            <a:off x="457200" y="1600200"/>
            <a:ext cx="4648320" cy="4525920"/>
          </a:xfrm>
          <a:prstGeom prst="rect">
            <a:avLst/>
          </a:prstGeom>
          <a:noFill/>
          <a:ln w="0">
            <a:noFill/>
          </a:ln>
        </p:spPr>
        <p:txBody>
          <a:bodyPr anchor="t">
            <a:normAutofit/>
          </a:bodyPr>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The Constitution</a:t>
            </a:r>
            <a:endParaRPr b="0" lang="en-US" sz="19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National institutions</a:t>
            </a:r>
            <a:endParaRPr b="0" lang="en-US" sz="19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Judiciary</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National Assembly</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National Human Rights Centre</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Lao Bar Association</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Lao Front for National Construction</a:t>
            </a:r>
            <a:r>
              <a:rPr b="0" lang="en-AU" sz="1600" spc="-1" strike="noStrike">
                <a:solidFill>
                  <a:srgbClr val="000000"/>
                </a:solidFill>
                <a:latin typeface="Calibri"/>
              </a:rPr>
              <a:t> </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State Inspection Authority</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Central and Provincial authorities </a:t>
            </a:r>
            <a:endParaRPr b="0" lang="en-US" sz="16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Law enforcement agencies</a:t>
            </a:r>
            <a:endParaRPr b="0" lang="en-US" sz="19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Specific laws and decrees</a:t>
            </a:r>
            <a:endParaRPr b="0" lang="en-US" sz="19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Decree on Associations</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Law on complaints</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Law on media</a:t>
            </a:r>
            <a:endParaRPr b="0" lang="en-US" sz="16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Policy machinery</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endParaRPr b="0" lang="en-US" sz="1900" spc="-1" strike="noStrike">
              <a:solidFill>
                <a:srgbClr val="000000"/>
              </a:solidFill>
              <a:latin typeface="Calibri"/>
            </a:endParaRPr>
          </a:p>
        </p:txBody>
      </p:sp>
      <p:pic>
        <p:nvPicPr>
          <p:cNvPr id="59" name="Content Placeholder 11" descr="Bartlett_-_Pha_That_Luang_-_Vientiane.jpg"/>
          <p:cNvPicPr/>
          <p:nvPr/>
        </p:nvPicPr>
        <p:blipFill>
          <a:blip r:embed="rId1"/>
          <a:stretch/>
        </p:blipFill>
        <p:spPr>
          <a:xfrm>
            <a:off x="5105520" y="1828800"/>
            <a:ext cx="4038480" cy="323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Challenges: Causality linkages</a:t>
            </a:r>
            <a:endParaRPr b="0" lang="en-US" sz="4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constraints of geograph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 major part of country’s territory is mountainous  and yet to be developed. Access is limit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legacy of wa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 adverse effects of the destructive wars and armed conflicts, especially of UXO and other war remnants, constitute the major obstacle to the improvement of the living conditions of the people in remote rural area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oor educational background of state official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ersistent lack of understanding</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ntrenched cultural belief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impact on health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Limited role for civil societ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the Decree on Associations is little known and hardly encourages the formation and active engagement with civil societ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Challenges: Causality Linkages</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ack of a Rule of Law cultur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ao PDR is a society in transi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ess to basic information on law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Members of the public and state officials are sometimes not aware of laws the related to human righ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uman resources constrain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imited capacity in almost all areas of state activi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ssue of ‘sensitive rights’: basic freedoms eg:</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Freedom of speech</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Freedom of associ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ssue of minority righ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 definition of minority remain a controversial point with implication for minority rights protec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porting compliance </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apacity issues undermines the complainc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Opportunities and Potential Points of Intervention</a:t>
            </a:r>
            <a:endParaRPr b="0" lang="en-US" sz="4000" spc="-1" strike="noStrike">
              <a:solidFill>
                <a:srgbClr val="000000"/>
              </a:solidFill>
              <a:latin typeface="Calibri"/>
            </a:endParaRPr>
          </a:p>
        </p:txBody>
      </p:sp>
      <p:sp>
        <p:nvSpPr>
          <p:cNvPr id="65" name=""/>
          <p:cNvSpPr txBox="1"/>
          <p:nvPr/>
        </p:nvSpPr>
        <p:spPr>
          <a:xfrm>
            <a:off x="456840" y="1600200"/>
            <a:ext cx="853452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 emerging culture of opennes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allows for open and healthy discussions and debates on human rights issues and a greater willingness to consider human rights question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acceptance of UPR Recommendation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creates a legitimate basis for positive advocacy</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 declared open commitment to the establishment of a Rule of State by 2020</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further enhances legitimate expectations of the UN agencies and Development Partner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ratification of the ICCPR</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serves as an important point of reference and creates and appropriate basis for assistance to the Lao PDR to align its laws with ICCPR principles and rules.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Challenge to UNCT: ‘Delivering as One’</a:t>
            </a:r>
            <a:endParaRPr b="0" lang="en-US" sz="4000" spc="-1" strike="noStrike">
              <a:solidFill>
                <a:srgbClr val="000000"/>
              </a:solidFill>
              <a:latin typeface="Calibri"/>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re is an increasing need to identify areas of synergies for coordination and concerted acti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ample: Human trafficking:</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ODC</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overty Reduction Uni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ICRI</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ICEF</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IF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L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FP</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XO unit</a:t>
            </a:r>
            <a:endParaRPr b="0" lang="en-US" sz="2400" spc="-1" strike="noStrike">
              <a:solidFill>
                <a:srgbClr val="000000"/>
              </a:solidFill>
              <a:latin typeface="Calibri"/>
            </a:endParaRPr>
          </a:p>
          <a:p>
            <a:pPr lvl="1" marL="74304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0T15:36:20Z</dcterms:created>
  <dc:creator>Sam Blay</dc:creator>
  <dc:description/>
  <dc:language>en-US</dc:language>
  <cp:lastModifiedBy>UNDP</cp:lastModifiedBy>
  <dcterms:modified xsi:type="dcterms:W3CDTF">2010-09-21T03:52:12Z</dcterms:modified>
  <cp:revision>44</cp:revision>
  <dc:subject/>
  <dc:title>Human Rights Approach in Lao PDR: Opportunities and Challenges for the UN System at Country Level to Strengthen and use Lao HR systems </dc:title>
</cp:coreProperties>
</file>